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278-6173-4509-BDE2-ABD1341B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E49-18F4-4D0A-AE72-ADC3061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089-20BC-4054-A162-3E21300F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15C-07B5-4442-BBAA-5E49896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2D8-67BD-48EA-96D7-9EA1B41B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2B4-5970-4B45-8747-B5ACBD6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F4C-A7FF-426A-AA97-1EB79CB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B1D-3CB4-4A08-ABCE-B2FF959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C8E-9C74-42E0-986E-2B4920B7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B88-9A9D-49C4-B983-323EA0E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65C-5AC3-4F67-9066-8AB11D2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528-D9B1-461F-AB21-5A7121A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375-265F-43AD-9320-6F3B42022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61280" y="6421320"/>
            <a:ext cx="178272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lations in Anatomy and 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6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rk Marw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titute for Formal Ontology and Medical Information Science, Saarland University, Saarbruecke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artment of Diagnostic Radiology, Leipzig University, Ger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3478320"/>
            <a:ext cx="5688360" cy="319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image_o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property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feature attribu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location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sual featur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 and the F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8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205000"/>
            <a:ext cx="7705800" cy="3062520"/>
            <a:chOff x="755640" y="2205000"/>
            <a:chExt cx="7705800" cy="3062520"/>
          </a:xfrm>
        </p:grpSpPr>
        <p:sp>
          <p:nvSpPr>
            <p:cNvPr id="91" name=""/>
            <p:cNvSpPr/>
            <p:nvPr/>
          </p:nvSpPr>
          <p:spPr>
            <a:xfrm>
              <a:off x="755640" y="2636640"/>
              <a:ext cx="2808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natom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8360" y="28526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1640" y="24922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image_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867280" y="2205000"/>
              <a:ext cx="2016000" cy="1512720"/>
              <a:chOff x="5867280" y="2205000"/>
              <a:chExt cx="2016000" cy="1512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940000" y="2780640"/>
                <a:ext cx="1800360" cy="732240"/>
                <a:chOff x="5940000" y="2780640"/>
                <a:chExt cx="1800360" cy="732240"/>
              </a:xfrm>
            </p:grpSpPr>
            <p:cxnSp>
              <p:nvCxnSpPr>
                <p:cNvPr id="96" name="_s53254"/>
                <p:cNvCxnSpPr>
                  <a:stCxn id="97" idx="0"/>
                  <a:endCxn id="98" idx="2"/>
                </p:cNvCxnSpPr>
                <p:nvPr/>
              </p:nvCxnSpPr>
              <p:spPr>
                <a:xfrm flipV="1" rot="16200000">
                  <a:off x="7081560" y="2831400"/>
                  <a:ext cx="147240" cy="63000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_s53255"/>
                <p:cNvCxnSpPr>
                  <a:stCxn id="100" idx="0"/>
                  <a:endCxn id="98" idx="2"/>
                </p:cNvCxnSpPr>
                <p:nvPr/>
              </p:nvCxnSpPr>
              <p:spPr>
                <a:xfrm flipV="1">
                  <a:off x="6840360" y="3072960"/>
                  <a:ext cx="1080" cy="14724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_s53256"/>
                <p:cNvCxnSpPr>
                  <a:stCxn id="102" idx="0"/>
                  <a:endCxn id="98" idx="2"/>
                </p:cNvCxnSpPr>
                <p:nvPr/>
              </p:nvCxnSpPr>
              <p:spPr>
                <a:xfrm flipH="1" flipV="1" rot="5400000">
                  <a:off x="6451920" y="2831040"/>
                  <a:ext cx="147240" cy="63144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8" name="_s53257"/>
                <p:cNvSpPr/>
                <p:nvPr/>
              </p:nvSpPr>
              <p:spPr>
                <a:xfrm>
                  <a:off x="6569640" y="2780640"/>
                  <a:ext cx="54144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_s53258"/>
                <p:cNvSpPr/>
                <p:nvPr/>
              </p:nvSpPr>
              <p:spPr>
                <a:xfrm>
                  <a:off x="594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_s53259"/>
                <p:cNvSpPr/>
                <p:nvPr/>
              </p:nvSpPr>
              <p:spPr>
                <a:xfrm>
                  <a:off x="657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_s53260"/>
                <p:cNvSpPr/>
                <p:nvPr/>
              </p:nvSpPr>
              <p:spPr>
                <a:xfrm>
                  <a:off x="720036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6011640" y="2205000"/>
                <a:ext cx="165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Anatomical Entity (FM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205000"/>
                <a:ext cx="201600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580000" y="4868640"/>
              <a:ext cx="2881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atholog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4868640"/>
              <a:ext cx="2305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717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340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92000" y="50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1280" y="4653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563640" y="3213000"/>
              <a:ext cx="280836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7640" y="3429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ubrelations of has_fe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to annotate properties to anatomical and 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gl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vertebral 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al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in 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stic [Attribute:Composition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[Anatom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odense [Attribute:Density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 (or contrast phase).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nodule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e [Attribute:Amount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e of Relations in Medical Im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511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General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ulmonary embolism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Morphology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upper right lobe of righ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marg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pi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hap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 malignant neoplas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yroid gland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iz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lar lymph nod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l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nuloma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lobe of lef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berculosis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700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28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3068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45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7340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365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6093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63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ities of two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dy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ies (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ruction of an Imaging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holog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lass level relations between Image Entity Types (and the F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Ontology (RadiO) for Diagnostic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otating image features to Anatomical and Pathological Image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riteria for Pathological Image Entities: Tracking the use of relations between image entity types to discriminate image features of dise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parating/linking of an Imaging Ontology from/to other Ontologies of Diseases/Diagn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5950080"/>
            <a:ext cx="302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lignant ne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-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tthew Field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ry Smit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niel Rub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Lex Committe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atomical Entities (Foundational Model of Anatomy, F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in Anatomy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tic Domain of Medial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between 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ilding an Imaging Ontology (Ra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ree types of binary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class, class &gt;: e.g.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bula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class &gt;: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„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instance &gt;: instance-level relation, e.g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instance of „right lower lobe of 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this particular instance of „right lu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lations between classes represent what is general i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eality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lobular or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tance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is particular instance of lung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particular instance of lobular or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atomical Ontologies (F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lass level-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Structural Relationship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ween Anatomical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undary (bounded_b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rtonomy (part_of, regional_part_of, constitutional_part_of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patial Associ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ocation (located_in, contained_in, adjecent_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rientation (coordinate, later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nectivity (continuous_with, attached_t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ropertie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f Anatomical Ent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men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onical Anatomical Entity - L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cal Imaging is concerned with diagnosing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we come from an image to a diagnosi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hat kind of entities exist on the image and how do they relate to each oth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age Entity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ing body en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16000" y="1628640"/>
            <a:ext cx="6781680" cy="4248360"/>
            <a:chOff x="1116000" y="1628640"/>
            <a:chExt cx="6781680" cy="42483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260360" y="4511520"/>
              <a:ext cx="22176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116000" y="2235240"/>
              <a:ext cx="13017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635280" y="2560680"/>
              <a:ext cx="174636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011640" y="3716280"/>
              <a:ext cx="144000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227640" y="1628640"/>
              <a:ext cx="1670040" cy="17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00000" y="1628640"/>
            <a:ext cx="7128000" cy="4427640"/>
            <a:chOff x="900000" y="1628640"/>
            <a:chExt cx="7128000" cy="442764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900000" y="2060640"/>
              <a:ext cx="165564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084720" y="1628640"/>
              <a:ext cx="19432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5868720" y="3716280"/>
              <a:ext cx="2016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1260360" y="4510080"/>
              <a:ext cx="223200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0"/>
            <a:stretch/>
          </p:blipFill>
          <p:spPr>
            <a:xfrm>
              <a:off x="3492360" y="2492280"/>
              <a:ext cx="19432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atomical Image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808360" cy="211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63560" y="3780000"/>
            <a:ext cx="32868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095640" cy="17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325764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5435640" y="2637000"/>
            <a:ext cx="122400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773000" y="4068720"/>
            <a:ext cx="422280" cy="18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Pathological Imag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ch diseases can be inferred from im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at kind of image features do diseases ha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es a disease have in any case identical image feat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f not, what are criteria which give evidence for a dis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191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7:14:41Z</dcterms:created>
  <dc:creator>r9marw</dc:creator>
  <dc:description/>
  <dc:language>en-US</dc:language>
  <cp:lastModifiedBy>Dirk</cp:lastModifiedBy>
  <dcterms:modified xsi:type="dcterms:W3CDTF">2006-03-24T23:48:01Z</dcterms:modified>
  <cp:revision>795</cp:revision>
  <dc:subject/>
  <dc:title>Relations in Image Ontologies</dc:title>
</cp:coreProperties>
</file>